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6.png" ContentType="image/png"/>
  <Override PartName="/ppt/media/image14.png" ContentType="image/png"/>
  <Override PartName="/ppt/media/image25.gif" ContentType="image/gif"/>
  <Override PartName="/ppt/media/image23.wmf" ContentType="image/x-wmf"/>
  <Override PartName="/ppt/media/image18.jpeg" ContentType="image/jpeg"/>
  <Override PartName="/ppt/media/image22.wmf" ContentType="image/x-wmf"/>
  <Override PartName="/ppt/media/image20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27.gif" ContentType="image/gif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276-DF59-40B5-A33D-8ABC11AF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800-AADD-44DE-B0A1-6613FED6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4B0-95EA-40BC-A440-C81F0C54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3937-9BB9-43EE-A548-F6C20451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2E95-66C5-4A19-915F-F51CEBBF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F90-F884-448F-BA54-C1502DE4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F5BD-C722-4144-89DA-88192D35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3F9-246F-44F2-9779-A492E48A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D06-1D71-4A75-A603-A7D8F204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DB83-65BE-4CB4-BC30-7C6DE0F1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F5C-2955-4224-8E91-1A491385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E3C-4F90-4789-8441-86B33FDB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C02E-C8CD-46E7-AD10-1D931548B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4000" y="189000"/>
            <a:ext cx="8346960" cy="6278400"/>
            <a:chOff x="324000" y="189000"/>
            <a:chExt cx="8346960" cy="62784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32360" y="333360"/>
              <a:ext cx="1965600" cy="2651040"/>
            </a:xfrm>
            <a:prstGeom prst="rect">
              <a:avLst/>
            </a:prstGeom>
            <a:ln w="28440">
              <a:solidFill>
                <a:srgbClr val="ff0000"/>
              </a:solidFill>
              <a:miter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484720" y="333360"/>
              <a:ext cx="2149200" cy="2577960"/>
            </a:xfrm>
            <a:prstGeom prst="rect">
              <a:avLst/>
            </a:prstGeom>
            <a:ln w="28440">
              <a:solidFill>
                <a:srgbClr val="ff0000"/>
              </a:solidFill>
              <a:miter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7172640" y="260280"/>
              <a:ext cx="1498320" cy="2737080"/>
            </a:xfrm>
            <a:prstGeom prst="rect">
              <a:avLst/>
            </a:prstGeom>
            <a:ln w="28440">
              <a:solidFill>
                <a:srgbClr val="ff0000"/>
              </a:solidFill>
              <a:miter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3205440" y="2060640"/>
              <a:ext cx="2952720" cy="2160360"/>
            </a:xfrm>
            <a:prstGeom prst="rect">
              <a:avLst/>
            </a:prstGeom>
            <a:ln w="28440">
              <a:solidFill>
                <a:srgbClr val="ff0000"/>
              </a:solidFill>
              <a:miter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324000" y="4056120"/>
              <a:ext cx="3097080" cy="2376360"/>
            </a:xfrm>
            <a:prstGeom prst="rect">
              <a:avLst/>
            </a:prstGeom>
            <a:ln w="28440">
              <a:solidFill>
                <a:srgbClr val="ff0000"/>
              </a:solidFill>
              <a:miter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397080" y="189000"/>
              <a:ext cx="1655640" cy="2755800"/>
            </a:xfrm>
            <a:prstGeom prst="rect">
              <a:avLst/>
            </a:prstGeom>
            <a:ln w="28440">
              <a:solidFill>
                <a:srgbClr val="ff0000"/>
              </a:solidFill>
              <a:miter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5437440" y="4076640"/>
              <a:ext cx="3063960" cy="2390760"/>
            </a:xfrm>
            <a:prstGeom prst="rect">
              <a:avLst/>
            </a:prstGeom>
            <a:ln w="28440">
              <a:solidFill>
                <a:srgbClr val="ff0000"/>
              </a:solidFill>
              <a:miter/>
            </a:ln>
          </p:spPr>
        </p:pic>
      </p:grpSp>
      <p:sp>
        <p:nvSpPr>
          <p:cNvPr id="49" name=""/>
          <p:cNvSpPr txBox="1"/>
          <p:nvPr/>
        </p:nvSpPr>
        <p:spPr>
          <a:xfrm>
            <a:off x="1258920" y="3573360"/>
            <a:ext cx="727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 нас объединяет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333360"/>
            <a:ext cx="8424720" cy="6191280"/>
          </a:xfrm>
          <a:prstGeom prst="rect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76160" y="415800"/>
            <a:ext cx="78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ahoma"/>
              </a:rPr>
              <a:t>ЗАДАНИЕ 1:</a:t>
            </a:r>
            <a:r>
              <a:rPr b="1" i="1" lang="en-US" sz="3600" spc="-1" strike="noStrike">
                <a:solidFill>
                  <a:srgbClr val="ff3399"/>
                </a:solidFill>
                <a:latin typeface="Tahoma"/>
              </a:rPr>
              <a:t>                                </a:t>
            </a:r>
            <a:r>
              <a:rPr b="1" i="1" lang="en-US" sz="3600" spc="-1" strike="noStrike">
                <a:solidFill>
                  <a:srgbClr val="0000ff"/>
                </a:solidFill>
                <a:latin typeface="Tahoma"/>
              </a:rPr>
              <a:t>Дать характеристику кисл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1700280"/>
            <a:ext cx="100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H</a:t>
            </a:r>
            <a:r>
              <a:rPr b="1" lang="ru-RU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4400" y="2922480"/>
            <a:ext cx="1687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H</a:t>
            </a:r>
            <a:r>
              <a:rPr b="1" lang="ru-RU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SiO</a:t>
            </a:r>
            <a:r>
              <a:rPr b="1" lang="en-US" sz="3200" spc="-1" strike="noStrike" baseline="-25000">
                <a:solidFill>
                  <a:srgbClr val="0099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3860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H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4941720"/>
            <a:ext cx="172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H</a:t>
            </a:r>
            <a:r>
              <a:rPr b="1" lang="ru-RU" sz="3200" spc="-1" strike="noStrike" baseline="-25000">
                <a:solidFill>
                  <a:srgbClr val="0099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PO</a:t>
            </a:r>
            <a:r>
              <a:rPr b="1" lang="ru-RU" sz="3200" spc="-1" strike="noStrike" baseline="-25000">
                <a:solidFill>
                  <a:srgbClr val="0099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40000" y="155736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ероводородная, бескислородная, двухосновная, раствори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40000" y="270828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ремниевая, кислородсодержащая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вухосновная, нераствори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68360" y="371628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фтороводородная, бескислородная, одноосновная, раствори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68360" y="486900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фосфорная, кислородсодержащ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ехосновная, раствори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80"/>
                </a:solidFill>
                <a:latin typeface="Tahoma"/>
              </a:rPr>
              <a:t>Получение кисло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43280" y="1066680"/>
            <a:ext cx="525780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Бескислородные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3657600"/>
            <a:ext cx="67053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Кислородсодержащие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1812960"/>
            <a:ext cx="68580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 + S </a:t>
            </a:r>
            <a:r>
              <a:rPr b="1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 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6600cc"/>
                </a:solidFill>
                <a:latin typeface="Tahoma"/>
              </a:rPr>
              <a:t>H</a:t>
            </a:r>
            <a:r>
              <a:rPr b="1" lang="en-US" sz="4000" spc="-1" strike="noStrike" baseline="-25000">
                <a:solidFill>
                  <a:srgbClr val="6600cc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6600cc"/>
                </a:solidFill>
                <a:latin typeface="Tahoma"/>
              </a:rPr>
              <a:t> + Cl</a:t>
            </a:r>
            <a:r>
              <a:rPr b="1" lang="en-US" sz="4000" spc="-1" strike="noStrike" baseline="-25000">
                <a:solidFill>
                  <a:srgbClr val="6600cc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6600cc"/>
                </a:solidFill>
                <a:latin typeface="Tahoma"/>
              </a:rPr>
              <a:t> 2 H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4724280"/>
            <a:ext cx="5486400" cy="5205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Кислотный оксид +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0640" y="5562720"/>
            <a:ext cx="5562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SO</a:t>
            </a:r>
            <a:r>
              <a:rPr b="1" lang="en-US" sz="4000" spc="-1" strike="noStrike" baseline="-25000">
                <a:solidFill>
                  <a:srgbClr val="008000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 + H</a:t>
            </a:r>
            <a:r>
              <a:rPr b="1" lang="en-US" sz="4000" spc="-1" strike="noStrike" baseline="-25000">
                <a:solidFill>
                  <a:srgbClr val="008000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O </a:t>
            </a:r>
            <a:r>
              <a:rPr b="1" lang="en-US" sz="4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 H</a:t>
            </a:r>
            <a:r>
              <a:rPr b="1" lang="en-US" sz="4000" spc="-1" strike="noStrike" baseline="-25000">
                <a:solidFill>
                  <a:srgbClr val="008000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SO</a:t>
            </a:r>
            <a:r>
              <a:rPr b="1" lang="en-US" sz="4000" spc="-1" strike="noStrike" baseline="-25000">
                <a:solidFill>
                  <a:srgbClr val="008000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57200" y="274680"/>
          <a:ext cx="8229600" cy="5580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Кислотны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окс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>
                      <a:noFill/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Соответствующая кисл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ff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>
                      <a:noFill/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ff33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ff33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>
                      <a:noFill/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ff33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800" spc="-1" strike="noStrike" baseline="-25000">
                          <a:solidFill>
                            <a:srgbClr val="ff3399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ff33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>
                      <a:noFill/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PO</a:t>
                      </a:r>
                      <a:r>
                        <a:rPr b="1" lang="en-US" sz="2800" spc="-1" strike="noStrike" baseline="-25000">
                          <a:solidFill>
                            <a:srgbClr val="ff33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800" spc="-1" strike="noStrike" baseline="-25000">
                          <a:solidFill>
                            <a:srgbClr val="ff3399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ff3399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>
                      <a:noFill/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NO</a:t>
                      </a:r>
                      <a:r>
                        <a:rPr b="1" lang="en-US" sz="2800" spc="-1" strike="noStrike" baseline="-25000">
                          <a:solidFill>
                            <a:srgbClr val="ff33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ff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>
                      <a:noFill/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ff33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SiO</a:t>
                      </a:r>
                      <a:r>
                        <a:rPr b="1" lang="en-US" sz="2800" spc="-1" strike="noStrike" baseline="-25000">
                          <a:solidFill>
                            <a:srgbClr val="ff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>
                      <a:noFill/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SiO</a:t>
                      </a:r>
                      <a:r>
                        <a:rPr b="1" lang="en-US" sz="2800" spc="-1" strike="noStrike" baseline="-25000">
                          <a:solidFill>
                            <a:srgbClr val="ff33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4024440" y="12319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4600" y="1646280"/>
            <a:ext cx="1371600" cy="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4600" y="2382840"/>
            <a:ext cx="1371600" cy="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85280" y="1932120"/>
            <a:ext cx="97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08600" y="3160800"/>
            <a:ext cx="1371600" cy="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3924360"/>
            <a:ext cx="1371600" cy="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33720" y="4797360"/>
            <a:ext cx="1371600" cy="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05240" y="3409920"/>
            <a:ext cx="90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38760" y="2712960"/>
            <a:ext cx="18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2400" y="2668680"/>
            <a:ext cx="123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6160" y="4348080"/>
            <a:ext cx="90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02120" y="5559480"/>
            <a:ext cx="1371600" cy="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998880" y="5175360"/>
            <a:ext cx="1154160" cy="622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5256360"/>
            <a:ext cx="1266840" cy="520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64120" y="5110200"/>
            <a:ext cx="90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3808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4437000"/>
            <a:ext cx="8496000" cy="208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</a:t>
            </a:r>
            <a:r>
              <a:rPr b="1" lang="ru-RU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</a:t>
            </a:r>
            <a:r>
              <a:rPr b="1" lang="ru-RU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– угольная кислота</a:t>
            </a: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SO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H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–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ернист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052640"/>
            <a:ext cx="8353440" cy="17416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Cl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- с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ляная кислота</a:t>
            </a: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   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рная кислота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жид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кости</a:t>
            </a:r>
            <a:r>
              <a:rPr b="0" i="1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N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зотная кислот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924280"/>
            <a:ext cx="8424720" cy="129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O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осфорная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кислота</a:t>
            </a: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твердые</a:t>
            </a:r>
            <a:r>
              <a:rPr b="1" i="1" lang="ru-RU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O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- кремниевая кислота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0"/>
            <a:ext cx="8893080" cy="10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Физические свойства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64000" y="1197000"/>
            <a:ext cx="360360" cy="1440000"/>
          </a:xfrm>
          <a:custGeom>
            <a:avLst/>
            <a:gdLst>
              <a:gd name="textAreaLeft" fmla="*/ 0 w 360360"/>
              <a:gd name="textAreaRight" fmla="*/ 129960 w 360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3068640"/>
            <a:ext cx="287280" cy="863640"/>
          </a:xfrm>
          <a:custGeom>
            <a:avLst/>
            <a:gdLst>
              <a:gd name="textAreaLeft" fmla="*/ 0 w 287280"/>
              <a:gd name="textAreaRight" fmla="*/ 103680 w 287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5445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В свободном виде не существуют,                           распадаются на газ и в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Физические свойства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240360" cy="46483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211640" y="1557360"/>
            <a:ext cx="3962520" cy="5205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Кислый в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3213000"/>
            <a:ext cx="3962520" cy="9471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Плотность больше плотности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84720" y="5229360"/>
            <a:ext cx="3962520" cy="9471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Разъедающее 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0080" y="228600"/>
            <a:ext cx="7682040" cy="49528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1066680" y="5486400"/>
            <a:ext cx="7010640" cy="1169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 Black"/>
                <a:ea typeface="Arial"/>
              </a:rPr>
              <a:t>Сначала вода, потом кислот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 Black"/>
                <a:ea typeface="Arial"/>
              </a:rPr>
              <a:t>иначе случится </a:t>
            </a:r>
            <a:r>
              <a:rPr b="1" i="1" lang="en-US" sz="2800" spc="-1" strike="noStrike">
                <a:solidFill>
                  <a:srgbClr val="ff0000"/>
                </a:solidFill>
                <a:latin typeface="Arial Black"/>
                <a:ea typeface="Arial"/>
              </a:rPr>
              <a:t>большая беда</a:t>
            </a:r>
            <a:r>
              <a:rPr b="1" i="1" lang="en-US" sz="2800" spc="-1" strike="noStrike">
                <a:solidFill>
                  <a:srgbClr val="ff0000"/>
                </a:solidFill>
                <a:latin typeface="Arial Black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95280" y="260280"/>
            <a:ext cx="8497800" cy="6264360"/>
          </a:xfrm>
          <a:prstGeom prst="rect">
            <a:avLst/>
          </a:prstGeom>
          <a:solidFill>
            <a:srgbClr val="ffffcc">
              <a:alpha val="50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260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99"/>
                </a:solidFill>
                <a:uFillTx/>
                <a:latin typeface="Bookman Old Style"/>
              </a:rPr>
              <a:t>ПРАВИЛА ТЕХНИКИ БЕЗ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2158920" cy="1798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96000" y="1773360"/>
            <a:ext cx="2057400" cy="1933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84360" y="407664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Едкое вещество—кислота! Разрушает и раздражает кожу, слизистые обол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3789360"/>
            <a:ext cx="4319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Попавшие на кожу капли раствора кислоты немедленно смойте сильной струей холодной  воды, а затем обработайте поврежденную поверхность 2%-м раствором питьевой с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750"/>
                            </p:stCondLst>
                            <p:childTnLst>
                              <p:par>
                                <p:cTn id="2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390"/>
                            </p:stCondLst>
                            <p:childTnLst>
                              <p:par>
                                <p:cTn id="2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3457440" cy="72072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Состав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1773360"/>
            <a:ext cx="868320" cy="155520"/>
          </a:xfrm>
          <a:prstGeom prst="rightArrow">
            <a:avLst>
              <a:gd name="adj1" fmla="val 50000"/>
              <a:gd name="adj2" fmla="val 139583"/>
            </a:avLst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32360" y="1484280"/>
            <a:ext cx="3745080" cy="72072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Свойства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256360" cy="31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rot="5400000">
            <a:off x="6819840" y="4991040"/>
            <a:ext cx="457200" cy="533520"/>
          </a:xfrm>
          <a:prstGeom prst="flowChartDelay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05720" y="3200400"/>
            <a:ext cx="753840" cy="2327400"/>
            <a:chOff x="6705720" y="3200400"/>
            <a:chExt cx="753840" cy="2327400"/>
          </a:xfrm>
        </p:grpSpPr>
        <p:sp>
          <p:nvSpPr>
            <p:cNvPr id="131" name=""/>
            <p:cNvSpPr/>
            <p:nvPr/>
          </p:nvSpPr>
          <p:spPr>
            <a:xfrm>
              <a:off x="7237440" y="3314880"/>
              <a:ext cx="120600" cy="1984320"/>
            </a:xfrm>
            <a:custGeom>
              <a:avLst/>
              <a:gdLst/>
              <a:ahLst/>
              <a:rect l="l" t="t" r="r" b="b"/>
              <a:pathLst>
                <a:path w="182" h="3155">
                  <a:moveTo>
                    <a:pt x="0" y="3155"/>
                  </a:moveTo>
                  <a:lnTo>
                    <a:pt x="182" y="3155"/>
                  </a:lnTo>
                  <a:lnTo>
                    <a:pt x="182" y="0"/>
                  </a:lnTo>
                  <a:lnTo>
                    <a:pt x="0" y="0"/>
                  </a:lnTo>
                  <a:lnTo>
                    <a:pt x="0" y="3155"/>
                  </a:lnTo>
                  <a:lnTo>
                    <a:pt x="0" y="3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6705720" y="3200400"/>
              <a:ext cx="753840" cy="2327400"/>
              <a:chOff x="6705720" y="3200400"/>
              <a:chExt cx="753840" cy="2327400"/>
            </a:xfrm>
          </p:grpSpPr>
          <p:sp>
            <p:nvSpPr>
              <p:cNvPr id="133" name=""/>
              <p:cNvSpPr/>
              <p:nvPr/>
            </p:nvSpPr>
            <p:spPr>
              <a:xfrm>
                <a:off x="6772320" y="5253120"/>
                <a:ext cx="584280" cy="274680"/>
              </a:xfrm>
              <a:custGeom>
                <a:avLst/>
                <a:gdLst/>
                <a:ahLst/>
                <a:rect l="l" t="t" r="r" b="b"/>
                <a:pathLst>
                  <a:path w="886" h="435">
                    <a:moveTo>
                      <a:pt x="730" y="13"/>
                    </a:moveTo>
                    <a:lnTo>
                      <a:pt x="709" y="61"/>
                    </a:lnTo>
                    <a:lnTo>
                      <a:pt x="690" y="131"/>
                    </a:lnTo>
                    <a:lnTo>
                      <a:pt x="668" y="159"/>
                    </a:lnTo>
                    <a:lnTo>
                      <a:pt x="643" y="184"/>
                    </a:lnTo>
                    <a:lnTo>
                      <a:pt x="612" y="205"/>
                    </a:lnTo>
                    <a:lnTo>
                      <a:pt x="582" y="224"/>
                    </a:lnTo>
                    <a:lnTo>
                      <a:pt x="548" y="235"/>
                    </a:lnTo>
                    <a:lnTo>
                      <a:pt x="512" y="247"/>
                    </a:lnTo>
                    <a:lnTo>
                      <a:pt x="476" y="251"/>
                    </a:lnTo>
                    <a:lnTo>
                      <a:pt x="441" y="251"/>
                    </a:lnTo>
                    <a:lnTo>
                      <a:pt x="403" y="247"/>
                    </a:lnTo>
                    <a:lnTo>
                      <a:pt x="369" y="239"/>
                    </a:lnTo>
                    <a:lnTo>
                      <a:pt x="335" y="226"/>
                    </a:lnTo>
                    <a:lnTo>
                      <a:pt x="303" y="209"/>
                    </a:lnTo>
                    <a:lnTo>
                      <a:pt x="274" y="188"/>
                    </a:lnTo>
                    <a:lnTo>
                      <a:pt x="246" y="163"/>
                    </a:lnTo>
                    <a:lnTo>
                      <a:pt x="223" y="135"/>
                    </a:lnTo>
                    <a:lnTo>
                      <a:pt x="204" y="104"/>
                    </a:lnTo>
                    <a:lnTo>
                      <a:pt x="194" y="64"/>
                    </a:lnTo>
                    <a:lnTo>
                      <a:pt x="160" y="0"/>
                    </a:lnTo>
                    <a:lnTo>
                      <a:pt x="4" y="32"/>
                    </a:lnTo>
                    <a:lnTo>
                      <a:pt x="0" y="72"/>
                    </a:lnTo>
                    <a:lnTo>
                      <a:pt x="18" y="140"/>
                    </a:lnTo>
                    <a:lnTo>
                      <a:pt x="44" y="199"/>
                    </a:lnTo>
                    <a:lnTo>
                      <a:pt x="77" y="243"/>
                    </a:lnTo>
                    <a:lnTo>
                      <a:pt x="111" y="287"/>
                    </a:lnTo>
                    <a:lnTo>
                      <a:pt x="149" y="329"/>
                    </a:lnTo>
                    <a:lnTo>
                      <a:pt x="192" y="363"/>
                    </a:lnTo>
                    <a:lnTo>
                      <a:pt x="240" y="391"/>
                    </a:lnTo>
                    <a:lnTo>
                      <a:pt x="289" y="414"/>
                    </a:lnTo>
                    <a:lnTo>
                      <a:pt x="344" y="431"/>
                    </a:lnTo>
                    <a:lnTo>
                      <a:pt x="400" y="435"/>
                    </a:lnTo>
                    <a:lnTo>
                      <a:pt x="455" y="435"/>
                    </a:lnTo>
                    <a:lnTo>
                      <a:pt x="510" y="435"/>
                    </a:lnTo>
                    <a:lnTo>
                      <a:pt x="565" y="429"/>
                    </a:lnTo>
                    <a:lnTo>
                      <a:pt x="620" y="410"/>
                    </a:lnTo>
                    <a:lnTo>
                      <a:pt x="669" y="386"/>
                    </a:lnTo>
                    <a:lnTo>
                      <a:pt x="715" y="355"/>
                    </a:lnTo>
                    <a:lnTo>
                      <a:pt x="757" y="321"/>
                    </a:lnTo>
                    <a:lnTo>
                      <a:pt x="795" y="279"/>
                    </a:lnTo>
                    <a:lnTo>
                      <a:pt x="829" y="232"/>
                    </a:lnTo>
                    <a:lnTo>
                      <a:pt x="854" y="182"/>
                    </a:lnTo>
                    <a:lnTo>
                      <a:pt x="875" y="131"/>
                    </a:lnTo>
                    <a:lnTo>
                      <a:pt x="886" y="62"/>
                    </a:lnTo>
                    <a:lnTo>
                      <a:pt x="730" y="13"/>
                    </a:lnTo>
                    <a:lnTo>
                      <a:pt x="73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705720" y="3200400"/>
                <a:ext cx="753840" cy="131760"/>
              </a:xfrm>
              <a:custGeom>
                <a:avLst/>
                <a:gdLst/>
                <a:ahLst/>
                <a:rect l="l" t="t" r="r" b="b"/>
                <a:pathLst>
                  <a:path w="1142" h="211">
                    <a:moveTo>
                      <a:pt x="0" y="211"/>
                    </a:moveTo>
                    <a:lnTo>
                      <a:pt x="1142" y="211"/>
                    </a:lnTo>
                    <a:lnTo>
                      <a:pt x="1142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772320" y="3310200"/>
                <a:ext cx="119160" cy="1984320"/>
              </a:xfrm>
              <a:custGeom>
                <a:avLst/>
                <a:gdLst/>
                <a:ahLst/>
                <a:rect l="l" t="t" r="r" b="b"/>
                <a:pathLst>
                  <a:path w="181" h="3155">
                    <a:moveTo>
                      <a:pt x="0" y="3155"/>
                    </a:moveTo>
                    <a:lnTo>
                      <a:pt x="181" y="3155"/>
                    </a:lnTo>
                    <a:lnTo>
                      <a:pt x="181" y="0"/>
                    </a:lnTo>
                    <a:lnTo>
                      <a:pt x="0" y="0"/>
                    </a:lnTo>
                    <a:lnTo>
                      <a:pt x="0" y="3155"/>
                    </a:lnTo>
                    <a:lnTo>
                      <a:pt x="0" y="3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10280" y="3479760"/>
                <a:ext cx="29700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010280" y="3735360"/>
                <a:ext cx="297000" cy="12096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991200" y="4010040"/>
                <a:ext cx="29700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008840" y="42451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008840" y="45007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07400" y="4754520"/>
                <a:ext cx="29844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07400" y="5010120"/>
                <a:ext cx="298440" cy="12096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 rot="5400000">
            <a:off x="2171160" y="4914720"/>
            <a:ext cx="457200" cy="533160"/>
          </a:xfrm>
          <a:prstGeom prst="flowChartDelay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57400" y="3200400"/>
            <a:ext cx="753840" cy="2327400"/>
            <a:chOff x="2057400" y="3200400"/>
            <a:chExt cx="753840" cy="2327400"/>
          </a:xfrm>
        </p:grpSpPr>
        <p:sp>
          <p:nvSpPr>
            <p:cNvPr id="145" name=""/>
            <p:cNvSpPr/>
            <p:nvPr/>
          </p:nvSpPr>
          <p:spPr>
            <a:xfrm>
              <a:off x="2589120" y="3314880"/>
              <a:ext cx="120600" cy="1984320"/>
            </a:xfrm>
            <a:custGeom>
              <a:avLst/>
              <a:gdLst/>
              <a:ahLst/>
              <a:rect l="l" t="t" r="r" b="b"/>
              <a:pathLst>
                <a:path w="182" h="3155">
                  <a:moveTo>
                    <a:pt x="0" y="3155"/>
                  </a:moveTo>
                  <a:lnTo>
                    <a:pt x="182" y="3155"/>
                  </a:lnTo>
                  <a:lnTo>
                    <a:pt x="182" y="0"/>
                  </a:lnTo>
                  <a:lnTo>
                    <a:pt x="0" y="0"/>
                  </a:lnTo>
                  <a:lnTo>
                    <a:pt x="0" y="3155"/>
                  </a:lnTo>
                  <a:lnTo>
                    <a:pt x="0" y="3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057400" y="3200400"/>
              <a:ext cx="753840" cy="2327400"/>
              <a:chOff x="2057400" y="3200400"/>
              <a:chExt cx="753840" cy="2327400"/>
            </a:xfrm>
          </p:grpSpPr>
          <p:sp>
            <p:nvSpPr>
              <p:cNvPr id="147" name=""/>
              <p:cNvSpPr/>
              <p:nvPr/>
            </p:nvSpPr>
            <p:spPr>
              <a:xfrm>
                <a:off x="2124000" y="5253120"/>
                <a:ext cx="584280" cy="274680"/>
              </a:xfrm>
              <a:custGeom>
                <a:avLst/>
                <a:gdLst/>
                <a:ahLst/>
                <a:rect l="l" t="t" r="r" b="b"/>
                <a:pathLst>
                  <a:path w="886" h="435">
                    <a:moveTo>
                      <a:pt x="730" y="13"/>
                    </a:moveTo>
                    <a:lnTo>
                      <a:pt x="709" y="61"/>
                    </a:lnTo>
                    <a:lnTo>
                      <a:pt x="690" y="131"/>
                    </a:lnTo>
                    <a:lnTo>
                      <a:pt x="668" y="159"/>
                    </a:lnTo>
                    <a:lnTo>
                      <a:pt x="643" y="184"/>
                    </a:lnTo>
                    <a:lnTo>
                      <a:pt x="612" y="205"/>
                    </a:lnTo>
                    <a:lnTo>
                      <a:pt x="582" y="224"/>
                    </a:lnTo>
                    <a:lnTo>
                      <a:pt x="548" y="235"/>
                    </a:lnTo>
                    <a:lnTo>
                      <a:pt x="512" y="247"/>
                    </a:lnTo>
                    <a:lnTo>
                      <a:pt x="476" y="251"/>
                    </a:lnTo>
                    <a:lnTo>
                      <a:pt x="441" y="251"/>
                    </a:lnTo>
                    <a:lnTo>
                      <a:pt x="403" y="247"/>
                    </a:lnTo>
                    <a:lnTo>
                      <a:pt x="369" y="239"/>
                    </a:lnTo>
                    <a:lnTo>
                      <a:pt x="335" y="226"/>
                    </a:lnTo>
                    <a:lnTo>
                      <a:pt x="303" y="209"/>
                    </a:lnTo>
                    <a:lnTo>
                      <a:pt x="274" y="188"/>
                    </a:lnTo>
                    <a:lnTo>
                      <a:pt x="246" y="163"/>
                    </a:lnTo>
                    <a:lnTo>
                      <a:pt x="223" y="135"/>
                    </a:lnTo>
                    <a:lnTo>
                      <a:pt x="204" y="104"/>
                    </a:lnTo>
                    <a:lnTo>
                      <a:pt x="194" y="64"/>
                    </a:lnTo>
                    <a:lnTo>
                      <a:pt x="160" y="0"/>
                    </a:lnTo>
                    <a:lnTo>
                      <a:pt x="4" y="32"/>
                    </a:lnTo>
                    <a:lnTo>
                      <a:pt x="0" y="72"/>
                    </a:lnTo>
                    <a:lnTo>
                      <a:pt x="18" y="140"/>
                    </a:lnTo>
                    <a:lnTo>
                      <a:pt x="44" y="199"/>
                    </a:lnTo>
                    <a:lnTo>
                      <a:pt x="77" y="243"/>
                    </a:lnTo>
                    <a:lnTo>
                      <a:pt x="111" y="287"/>
                    </a:lnTo>
                    <a:lnTo>
                      <a:pt x="149" y="329"/>
                    </a:lnTo>
                    <a:lnTo>
                      <a:pt x="192" y="363"/>
                    </a:lnTo>
                    <a:lnTo>
                      <a:pt x="240" y="391"/>
                    </a:lnTo>
                    <a:lnTo>
                      <a:pt x="289" y="414"/>
                    </a:lnTo>
                    <a:lnTo>
                      <a:pt x="344" y="431"/>
                    </a:lnTo>
                    <a:lnTo>
                      <a:pt x="400" y="435"/>
                    </a:lnTo>
                    <a:lnTo>
                      <a:pt x="455" y="435"/>
                    </a:lnTo>
                    <a:lnTo>
                      <a:pt x="510" y="435"/>
                    </a:lnTo>
                    <a:lnTo>
                      <a:pt x="565" y="429"/>
                    </a:lnTo>
                    <a:lnTo>
                      <a:pt x="620" y="410"/>
                    </a:lnTo>
                    <a:lnTo>
                      <a:pt x="669" y="386"/>
                    </a:lnTo>
                    <a:lnTo>
                      <a:pt x="715" y="355"/>
                    </a:lnTo>
                    <a:lnTo>
                      <a:pt x="757" y="321"/>
                    </a:lnTo>
                    <a:lnTo>
                      <a:pt x="795" y="279"/>
                    </a:lnTo>
                    <a:lnTo>
                      <a:pt x="829" y="232"/>
                    </a:lnTo>
                    <a:lnTo>
                      <a:pt x="854" y="182"/>
                    </a:lnTo>
                    <a:lnTo>
                      <a:pt x="875" y="131"/>
                    </a:lnTo>
                    <a:lnTo>
                      <a:pt x="886" y="62"/>
                    </a:lnTo>
                    <a:lnTo>
                      <a:pt x="730" y="13"/>
                    </a:lnTo>
                    <a:lnTo>
                      <a:pt x="73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057400" y="3200400"/>
                <a:ext cx="753840" cy="131760"/>
              </a:xfrm>
              <a:custGeom>
                <a:avLst/>
                <a:gdLst/>
                <a:ahLst/>
                <a:rect l="l" t="t" r="r" b="b"/>
                <a:pathLst>
                  <a:path w="1142" h="211">
                    <a:moveTo>
                      <a:pt x="0" y="211"/>
                    </a:moveTo>
                    <a:lnTo>
                      <a:pt x="1142" y="211"/>
                    </a:lnTo>
                    <a:lnTo>
                      <a:pt x="1142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124000" y="3310200"/>
                <a:ext cx="119160" cy="1984320"/>
              </a:xfrm>
              <a:custGeom>
                <a:avLst/>
                <a:gdLst/>
                <a:ahLst/>
                <a:rect l="l" t="t" r="r" b="b"/>
                <a:pathLst>
                  <a:path w="181" h="3155">
                    <a:moveTo>
                      <a:pt x="0" y="3155"/>
                    </a:moveTo>
                    <a:lnTo>
                      <a:pt x="181" y="3155"/>
                    </a:lnTo>
                    <a:lnTo>
                      <a:pt x="181" y="0"/>
                    </a:lnTo>
                    <a:lnTo>
                      <a:pt x="0" y="0"/>
                    </a:lnTo>
                    <a:lnTo>
                      <a:pt x="0" y="3155"/>
                    </a:lnTo>
                    <a:lnTo>
                      <a:pt x="0" y="3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61960" y="3479760"/>
                <a:ext cx="29700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361960" y="3735360"/>
                <a:ext cx="297000" cy="12096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342880" y="4010040"/>
                <a:ext cx="29700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60520" y="42451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60520" y="45007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359080" y="4754520"/>
                <a:ext cx="29844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59080" y="5010120"/>
                <a:ext cx="298440" cy="12096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1523880" y="2666880"/>
            <a:ext cx="1067040" cy="3812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2666880"/>
            <a:ext cx="1066680" cy="38124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666880"/>
            <a:ext cx="1067040" cy="3812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533840" y="4991040"/>
            <a:ext cx="457200" cy="533520"/>
          </a:xfrm>
          <a:prstGeom prst="flowChartDelay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419720" y="3200400"/>
            <a:ext cx="753840" cy="2327400"/>
            <a:chOff x="4419720" y="3200400"/>
            <a:chExt cx="753840" cy="2327400"/>
          </a:xfrm>
        </p:grpSpPr>
        <p:sp>
          <p:nvSpPr>
            <p:cNvPr id="162" name=""/>
            <p:cNvSpPr/>
            <p:nvPr/>
          </p:nvSpPr>
          <p:spPr>
            <a:xfrm>
              <a:off x="4951440" y="3314880"/>
              <a:ext cx="120600" cy="1984320"/>
            </a:xfrm>
            <a:custGeom>
              <a:avLst/>
              <a:gdLst/>
              <a:ahLst/>
              <a:rect l="l" t="t" r="r" b="b"/>
              <a:pathLst>
                <a:path w="182" h="3155">
                  <a:moveTo>
                    <a:pt x="0" y="3155"/>
                  </a:moveTo>
                  <a:lnTo>
                    <a:pt x="182" y="3155"/>
                  </a:lnTo>
                  <a:lnTo>
                    <a:pt x="182" y="0"/>
                  </a:lnTo>
                  <a:lnTo>
                    <a:pt x="0" y="0"/>
                  </a:lnTo>
                  <a:lnTo>
                    <a:pt x="0" y="3155"/>
                  </a:lnTo>
                  <a:lnTo>
                    <a:pt x="0" y="3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419720" y="3200400"/>
              <a:ext cx="753840" cy="2327400"/>
              <a:chOff x="4419720" y="3200400"/>
              <a:chExt cx="753840" cy="232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4486320" y="5253120"/>
                <a:ext cx="584280" cy="274680"/>
              </a:xfrm>
              <a:custGeom>
                <a:avLst/>
                <a:gdLst/>
                <a:ahLst/>
                <a:rect l="l" t="t" r="r" b="b"/>
                <a:pathLst>
                  <a:path w="886" h="435">
                    <a:moveTo>
                      <a:pt x="730" y="13"/>
                    </a:moveTo>
                    <a:lnTo>
                      <a:pt x="709" y="61"/>
                    </a:lnTo>
                    <a:lnTo>
                      <a:pt x="690" y="131"/>
                    </a:lnTo>
                    <a:lnTo>
                      <a:pt x="668" y="159"/>
                    </a:lnTo>
                    <a:lnTo>
                      <a:pt x="643" y="184"/>
                    </a:lnTo>
                    <a:lnTo>
                      <a:pt x="612" y="205"/>
                    </a:lnTo>
                    <a:lnTo>
                      <a:pt x="582" y="224"/>
                    </a:lnTo>
                    <a:lnTo>
                      <a:pt x="548" y="235"/>
                    </a:lnTo>
                    <a:lnTo>
                      <a:pt x="512" y="247"/>
                    </a:lnTo>
                    <a:lnTo>
                      <a:pt x="476" y="251"/>
                    </a:lnTo>
                    <a:lnTo>
                      <a:pt x="441" y="251"/>
                    </a:lnTo>
                    <a:lnTo>
                      <a:pt x="403" y="247"/>
                    </a:lnTo>
                    <a:lnTo>
                      <a:pt x="369" y="239"/>
                    </a:lnTo>
                    <a:lnTo>
                      <a:pt x="335" y="226"/>
                    </a:lnTo>
                    <a:lnTo>
                      <a:pt x="303" y="209"/>
                    </a:lnTo>
                    <a:lnTo>
                      <a:pt x="274" y="188"/>
                    </a:lnTo>
                    <a:lnTo>
                      <a:pt x="246" y="163"/>
                    </a:lnTo>
                    <a:lnTo>
                      <a:pt x="223" y="135"/>
                    </a:lnTo>
                    <a:lnTo>
                      <a:pt x="204" y="104"/>
                    </a:lnTo>
                    <a:lnTo>
                      <a:pt x="194" y="64"/>
                    </a:lnTo>
                    <a:lnTo>
                      <a:pt x="160" y="0"/>
                    </a:lnTo>
                    <a:lnTo>
                      <a:pt x="4" y="32"/>
                    </a:lnTo>
                    <a:lnTo>
                      <a:pt x="0" y="72"/>
                    </a:lnTo>
                    <a:lnTo>
                      <a:pt x="18" y="140"/>
                    </a:lnTo>
                    <a:lnTo>
                      <a:pt x="44" y="199"/>
                    </a:lnTo>
                    <a:lnTo>
                      <a:pt x="77" y="243"/>
                    </a:lnTo>
                    <a:lnTo>
                      <a:pt x="111" y="287"/>
                    </a:lnTo>
                    <a:lnTo>
                      <a:pt x="149" y="329"/>
                    </a:lnTo>
                    <a:lnTo>
                      <a:pt x="192" y="363"/>
                    </a:lnTo>
                    <a:lnTo>
                      <a:pt x="240" y="391"/>
                    </a:lnTo>
                    <a:lnTo>
                      <a:pt x="289" y="414"/>
                    </a:lnTo>
                    <a:lnTo>
                      <a:pt x="344" y="431"/>
                    </a:lnTo>
                    <a:lnTo>
                      <a:pt x="400" y="435"/>
                    </a:lnTo>
                    <a:lnTo>
                      <a:pt x="455" y="435"/>
                    </a:lnTo>
                    <a:lnTo>
                      <a:pt x="510" y="435"/>
                    </a:lnTo>
                    <a:lnTo>
                      <a:pt x="565" y="429"/>
                    </a:lnTo>
                    <a:lnTo>
                      <a:pt x="620" y="410"/>
                    </a:lnTo>
                    <a:lnTo>
                      <a:pt x="669" y="386"/>
                    </a:lnTo>
                    <a:lnTo>
                      <a:pt x="715" y="355"/>
                    </a:lnTo>
                    <a:lnTo>
                      <a:pt x="757" y="321"/>
                    </a:lnTo>
                    <a:lnTo>
                      <a:pt x="795" y="279"/>
                    </a:lnTo>
                    <a:lnTo>
                      <a:pt x="829" y="232"/>
                    </a:lnTo>
                    <a:lnTo>
                      <a:pt x="854" y="182"/>
                    </a:lnTo>
                    <a:lnTo>
                      <a:pt x="875" y="131"/>
                    </a:lnTo>
                    <a:lnTo>
                      <a:pt x="886" y="62"/>
                    </a:lnTo>
                    <a:lnTo>
                      <a:pt x="730" y="13"/>
                    </a:lnTo>
                    <a:lnTo>
                      <a:pt x="73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19720" y="3200400"/>
                <a:ext cx="753840" cy="131760"/>
              </a:xfrm>
              <a:custGeom>
                <a:avLst/>
                <a:gdLst/>
                <a:ahLst/>
                <a:rect l="l" t="t" r="r" b="b"/>
                <a:pathLst>
                  <a:path w="1142" h="211">
                    <a:moveTo>
                      <a:pt x="0" y="211"/>
                    </a:moveTo>
                    <a:lnTo>
                      <a:pt x="1142" y="211"/>
                    </a:lnTo>
                    <a:lnTo>
                      <a:pt x="1142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86320" y="3310200"/>
                <a:ext cx="119160" cy="1984320"/>
              </a:xfrm>
              <a:custGeom>
                <a:avLst/>
                <a:gdLst/>
                <a:ahLst/>
                <a:rect l="l" t="t" r="r" b="b"/>
                <a:pathLst>
                  <a:path w="181" h="3155">
                    <a:moveTo>
                      <a:pt x="0" y="3155"/>
                    </a:moveTo>
                    <a:lnTo>
                      <a:pt x="181" y="3155"/>
                    </a:lnTo>
                    <a:lnTo>
                      <a:pt x="181" y="0"/>
                    </a:lnTo>
                    <a:lnTo>
                      <a:pt x="0" y="0"/>
                    </a:lnTo>
                    <a:lnTo>
                      <a:pt x="0" y="3155"/>
                    </a:lnTo>
                    <a:lnTo>
                      <a:pt x="0" y="3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24280" y="3479760"/>
                <a:ext cx="29700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24280" y="3735360"/>
                <a:ext cx="297000" cy="12096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05200" y="4010040"/>
                <a:ext cx="29700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722840" y="42451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22840" y="45007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721400" y="4754520"/>
                <a:ext cx="29844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21400" y="5010120"/>
                <a:ext cx="298440" cy="12096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"/>
          <p:cNvSpPr/>
          <p:nvPr/>
        </p:nvSpPr>
        <p:spPr>
          <a:xfrm>
            <a:off x="1371600" y="2057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лак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1981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етилоран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фенолфтале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5638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Взаимодействие кислот с индикато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Взаимодействие кислот с металл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3600" y="1765440"/>
            <a:ext cx="891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Кислоты взаимодействуют с металл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стоящими в ряду напряжений металлов </a:t>
            </a:r>
            <a:r>
              <a:rPr b="1" lang="en-US" sz="2400" spc="-1" strike="noStrike">
                <a:solidFill>
                  <a:srgbClr val="ff3399"/>
                </a:solidFill>
                <a:latin typeface="Tahoma"/>
              </a:rPr>
              <a:t>до водорода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ff3399"/>
                </a:solidFill>
                <a:latin typeface="Tahoma"/>
              </a:rPr>
              <a:t>исключение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составляют азотная 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 и концентрированная серная кисл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79280" y="3656160"/>
          <a:ext cx="8798040" cy="431640"/>
        </p:xfrm>
        <a:graphic>
          <a:graphicData uri="http://schemas.openxmlformats.org/drawingml/2006/table">
            <a:tbl>
              <a:tblPr/>
              <a:tblGrid>
                <a:gridCol w="352440"/>
                <a:gridCol w="424080"/>
                <a:gridCol w="379440"/>
                <a:gridCol w="477720"/>
                <a:gridCol w="466560"/>
                <a:gridCol w="466920"/>
                <a:gridCol w="522360"/>
                <a:gridCol w="407880"/>
                <a:gridCol w="450720"/>
                <a:gridCol w="424080"/>
                <a:gridCol w="423720"/>
                <a:gridCol w="422280"/>
                <a:gridCol w="436680"/>
                <a:gridCol w="438120"/>
                <a:gridCol w="423720"/>
                <a:gridCol w="451080"/>
                <a:gridCol w="465120"/>
                <a:gridCol w="493560"/>
                <a:gridCol w="395280"/>
                <a:gridCol w="476280"/>
              </a:tblGrid>
              <a:tr h="431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1" lang="en-US" sz="1400" spc="-1" strike="noStrike" baseline="-30000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267280" y="4948200"/>
            <a:ext cx="469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g + 2HCl → Mg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l 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06440" y="385920"/>
            <a:ext cx="712800" cy="49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87440" y="409680"/>
          <a:ext cx="8064360" cy="60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>
                    <a:alphaModFix amt="68000"/>
                  </a:blip>
                  <a:stretch/>
                </p:blipFill>
                <p:spPr>
                  <a:xfrm>
                    <a:off x="487440" y="409680"/>
                    <a:ext cx="8064360" cy="60483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665280" y="631800"/>
            <a:ext cx="792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 своего жизненного опыта вы знаете, что многие продукты питания обладают кислым вкусом. Кислый вкус этим продуктам придают 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кислоты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Кислый вкус лимону придает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имонная кисло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яблоку—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яблочная кисло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скисшему молоку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олочная кисло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Щавель имеет кислый вкус благодаря наличию в его листьях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щавелевой кислот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Взаимодействие кислот с основными оксид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2280" y="3052800"/>
            <a:ext cx="469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 + 2НС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→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uCl</a:t>
            </a:r>
            <a:r>
              <a:rPr b="1" i="1" lang="ru-RU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i="1" lang="ru-RU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229440" y="2446200"/>
            <a:ext cx="2046240" cy="247968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06440" y="385920"/>
            <a:ext cx="712800" cy="49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6836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Взаимодействие кислот с основа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2760" y="2951280"/>
            <a:ext cx="490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NaOH + HCl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NaCl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+ H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867280" y="2001960"/>
            <a:ext cx="2286000" cy="276228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582480" y="5222880"/>
            <a:ext cx="831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РЕАКЦИЯ НЕЙТРАЛИЗАЦИ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– реакция между кислотой и основанием с образованием соли и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06440" y="385920"/>
            <a:ext cx="712800" cy="49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1841400"/>
            <a:ext cx="52560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а) если выпадает осадо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6160" y="3500280"/>
            <a:ext cx="80377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9900"/>
                </a:solidFill>
                <a:latin typeface="Tahoma"/>
              </a:rPr>
              <a:t>б) если выделяется газ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аСО</a:t>
            </a:r>
            <a:r>
              <a:rPr b="1" i="1" lang="ru-RU" sz="2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+ 2НС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l → CaCl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+ CO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 + H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Взаимодействие кислот с сол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13000" y="2840040"/>
            <a:ext cx="62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gNO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+ HCl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gCl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+ HNO</a:t>
            </a:r>
            <a:r>
              <a:rPr b="1" i="1" lang="en-US" sz="2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11680" y="2868480"/>
            <a:ext cx="0" cy="40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6700680" y="4413240"/>
            <a:ext cx="14400" cy="417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06440" y="385920"/>
            <a:ext cx="712800" cy="49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696000" cy="51516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201" name=""/>
          <p:cNvSpPr txBox="1"/>
          <p:nvPr/>
        </p:nvSpPr>
        <p:spPr>
          <a:xfrm>
            <a:off x="395280" y="260280"/>
            <a:ext cx="838188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Классификация неорганических веществ</a:t>
            </a:r>
            <a:endParaRPr b="1" i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610920"/>
            <a:ext cx="896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ЗАДАНИЕ 2.</a:t>
            </a:r>
            <a:br>
              <a:rPr sz="4000"/>
            </a:b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Напиши правильные формулы веществ, переставив фрагменты места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61760" y="2346480"/>
            <a:ext cx="208764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PO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H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SH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5</a:t>
            </a: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NHO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Fe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CH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62560" y="2784600"/>
            <a:ext cx="2076480" cy="31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610920"/>
            <a:ext cx="896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74680" y="1782360"/>
            <a:ext cx="640224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H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PO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– фосфорн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H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SO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i="1" lang="ru-RU" sz="3200" spc="-1" strike="noStrike" baseline="-25000">
                <a:solidFill>
                  <a:srgbClr val="0099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– серная кислота</a:t>
            </a: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5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– оксид фос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HNO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3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зотн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Fe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3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– оксид жел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H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i="1" lang="es-ES" sz="3200" spc="-1" strike="noStrike">
                <a:solidFill>
                  <a:srgbClr val="009900"/>
                </a:solidFill>
                <a:latin typeface="Arial"/>
              </a:rPr>
              <a:t>CO</a:t>
            </a:r>
            <a:r>
              <a:rPr b="1" i="1" lang="es-ES" sz="3200" spc="-1" strike="noStrike" baseline="-25000">
                <a:solidFill>
                  <a:srgbClr val="009900"/>
                </a:solidFill>
                <a:latin typeface="Arial"/>
              </a:rPr>
              <a:t>3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– угольн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746760" y="2606760"/>
            <a:ext cx="2094120" cy="24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09480"/>
            <a:ext cx="8153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9440" y="301680"/>
            <a:ext cx="8494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ahoma"/>
              </a:rPr>
              <a:t>ЗАДАНИЕ 3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br>
              <a:rPr sz="4000"/>
            </a:br>
            <a:r>
              <a:rPr b="1" i="1" lang="en-US" sz="3600" spc="-1" strike="noStrike">
                <a:solidFill>
                  <a:srgbClr val="0000ff"/>
                </a:solidFill>
                <a:latin typeface="Tahoma"/>
              </a:rPr>
              <a:t>Распредели вещества по классам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60360" y="2071800"/>
          <a:ext cx="8229600" cy="1419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кси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сн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исл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685800" y="365760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HCl,     HNO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,     H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, Ca(OH)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,     K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,     Na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,   Al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,     Zn(OH)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,     Fe(OH)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736560" y="1312920"/>
          <a:ext cx="7772400" cy="3081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кси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сн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исл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23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K</a:t>
                      </a:r>
                      <a:r>
                        <a:rPr b="1" i="1" lang="en-US" sz="44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4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O     Na</a:t>
                      </a:r>
                      <a:r>
                        <a:rPr b="1" i="1" lang="en-US" sz="44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4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O Al</a:t>
                      </a:r>
                      <a:r>
                        <a:rPr b="1" i="1" lang="en-US" sz="44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4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O</a:t>
                      </a:r>
                      <a:r>
                        <a:rPr b="1" i="1" lang="en-US" sz="44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Ca(OH)</a:t>
                      </a:r>
                      <a:r>
                        <a:rPr b="1" i="1" lang="en-US" sz="4400" spc="-1" strike="noStrike" baseline="-25000">
                          <a:solidFill>
                            <a:srgbClr val="cc00ff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44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 Zn(OH)</a:t>
                      </a:r>
                      <a:r>
                        <a:rPr b="1" i="1" lang="en-US" sz="4400" spc="-1" strike="noStrike" baseline="-25000">
                          <a:solidFill>
                            <a:srgbClr val="cc00ff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44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     Fe(OH)</a:t>
                      </a:r>
                      <a:r>
                        <a:rPr b="1" i="1" lang="en-US" sz="4400" spc="-1" strike="noStrike" baseline="-25000">
                          <a:solidFill>
                            <a:srgbClr val="cc00ff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H</a:t>
                      </a:r>
                      <a:r>
                        <a:rPr b="1" i="1" lang="en-US" sz="4400" spc="-1" strike="noStrike" baseline="-25000">
                          <a:solidFill>
                            <a:srgbClr val="cc9900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4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SO</a:t>
                      </a:r>
                      <a:r>
                        <a:rPr b="1" i="1" lang="en-US" sz="4400" spc="-1" strike="noStrike" baseline="-25000">
                          <a:solidFill>
                            <a:srgbClr val="cc9900"/>
                          </a:solidFill>
                          <a:latin typeface="Arial"/>
                        </a:rPr>
                        <a:t>4</a:t>
                      </a:r>
                      <a:r>
                        <a:rPr b="1" i="1" lang="en-US" sz="4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 HCl     HNO</a:t>
                      </a:r>
                      <a:r>
                        <a:rPr b="1" i="1" lang="en-US" sz="4400" spc="-1" strike="noStrike" baseline="-25000">
                          <a:solidFill>
                            <a:srgbClr val="cc9900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718320" y="4594320"/>
            <a:ext cx="1827360" cy="2039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72960" y="247680"/>
            <a:ext cx="849492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ahoma"/>
              </a:rPr>
              <a:t>ОТВЕ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0920" y="333360"/>
            <a:ext cx="8675640" cy="85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OSOHBrNa</a:t>
            </a:r>
            <a:r>
              <a:rPr b="1" lang="ru-RU" sz="3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3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MgBaH</a:t>
            </a:r>
            <a:r>
              <a:rPr b="1" lang="ru-RU" sz="3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ru-RU" sz="3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ru-RU" sz="3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KO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CaH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SKPHNO</a:t>
            </a:r>
            <a:r>
              <a:rPr b="1" lang="en-US" sz="35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HClBaSHKSHH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NaClH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2960" y="441360"/>
            <a:ext cx="849492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ahoma"/>
              </a:rPr>
              <a:t>ЗАДАНИЕ 4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br>
              <a:rPr sz="4000"/>
            </a:br>
            <a:r>
              <a:rPr b="1" i="1" lang="en-US" sz="3200" spc="-1" strike="noStrike">
                <a:solidFill>
                  <a:srgbClr val="0000ff"/>
                </a:solidFill>
                <a:latin typeface="Tahoma"/>
              </a:rPr>
              <a:t>Выпиши формулы кислот, назови их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50920" y="333360"/>
            <a:ext cx="8675640" cy="76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OSO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HBr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ru-RU" sz="3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3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MgBa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35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ru-RU" sz="35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ru-RU" sz="3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KO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5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PO</a:t>
            </a:r>
            <a:r>
              <a:rPr b="1" lang="en-US" sz="35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5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KP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HNO</a:t>
            </a:r>
            <a:r>
              <a:rPr b="1" lang="ru-RU" sz="35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HCl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BaSHKSHH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5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SiO</a:t>
            </a:r>
            <a:r>
              <a:rPr b="1" lang="en-US" sz="35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5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5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2960" y="441360"/>
            <a:ext cx="849492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ahoma"/>
              </a:rPr>
              <a:t>ОТВЕ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496200" y="4538520"/>
            <a:ext cx="1827000" cy="20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8120" y="3057480"/>
            <a:ext cx="4602240" cy="30369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54" name=""/>
          <p:cNvSpPr txBox="1"/>
          <p:nvPr/>
        </p:nvSpPr>
        <p:spPr>
          <a:xfrm>
            <a:off x="2187720" y="966960"/>
            <a:ext cx="539568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ислоты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8080" y="250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99"/>
                </a:solidFill>
                <a:latin typeface="Tahoma"/>
              </a:rPr>
              <a:t>ЗАДАНИЕ 5: </a:t>
            </a:r>
            <a:br>
              <a:rPr sz="3400"/>
            </a:br>
            <a:r>
              <a:rPr b="1" i="1" lang="en-US" sz="3400" spc="-1" strike="noStrike">
                <a:solidFill>
                  <a:srgbClr val="ffff00"/>
                </a:solidFill>
                <a:latin typeface="Tahoma"/>
              </a:rPr>
              <a:t>Погадаем на ромашке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92240" y="1584360"/>
            <a:ext cx="868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«Взаимодействует – не  взаимодействует?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" descr="ЦВЕТОК"/>
          <p:cNvPicPr/>
          <p:nvPr/>
        </p:nvPicPr>
        <p:blipFill>
          <a:blip r:embed="rId1"/>
          <a:srcRect l="22294" t="9154" r="22220" b="20128"/>
          <a:stretch/>
        </p:blipFill>
        <p:spPr>
          <a:xfrm>
            <a:off x="2968560" y="2409840"/>
            <a:ext cx="3778200" cy="38322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488360" y="523800"/>
            <a:ext cx="83160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85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99"/>
                </a:solidFill>
                <a:latin typeface="Tahoma"/>
              </a:rPr>
              <a:t>ЗАДАНИЕ 6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93760" y="1824120"/>
            <a:ext cx="8651880" cy="3490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5520" y="2477520"/>
            <a:ext cx="79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§ 32, упр. 5—9 (с. 104—105), задачи 1—4 (с. 105)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83240" y="3564000"/>
            <a:ext cx="347184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7074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887400" y="2300400"/>
            <a:ext cx="7453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ff3399"/>
                </a:solidFill>
                <a:latin typeface="Tahoma"/>
              </a:rPr>
              <a:t>КИСЛОТЫ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сложные вещества, состоящие из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томов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водород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кислотного оста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>
            <a:off x="1476360" y="3789360"/>
            <a:ext cx="5545080" cy="2087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  <a:ea typeface="Arial"/>
              </a:rPr>
              <a:t>Н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Arial"/>
              </a:rPr>
              <a:t>C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708280"/>
            <a:ext cx="0" cy="179856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5280" y="2781360"/>
            <a:ext cx="0" cy="1800000"/>
          </a:xfrm>
          <a:prstGeom prst="line">
            <a:avLst/>
          </a:prstGeom>
          <a:ln w="38160">
            <a:solidFill>
              <a:srgbClr val="0099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Tahoma"/>
              </a:rPr>
              <a:t>Названия распространенных кисло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052640"/>
            <a:ext cx="777240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l </a:t>
            </a: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лороводородная (солян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тороводородная (плавиков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r</a:t>
            </a:r>
            <a:r>
              <a:rPr b="0" i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ромоводор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йодоводор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H</a:t>
            </a:r>
            <a:r>
              <a:rPr b="1" i="1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ероводородная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H</a:t>
            </a:r>
            <a:r>
              <a:rPr b="1" i="1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ольная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H</a:t>
            </a:r>
            <a:r>
              <a:rPr b="1" i="1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i="1" lang="ru-RU" sz="2800" spc="-1" strike="noStrike" baseline="-25000">
                <a:solidFill>
                  <a:srgbClr val="0066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H</a:t>
            </a:r>
            <a:r>
              <a:rPr b="1" i="1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1" i="1" lang="ru-RU" sz="2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ru-RU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нис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зотная</a:t>
            </a: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H</a:t>
            </a:r>
            <a:r>
              <a:rPr b="1" i="1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SiO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емние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H</a:t>
            </a:r>
            <a:r>
              <a:rPr b="1" i="1" lang="en-US" sz="2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O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тофосфо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5840" y="212760"/>
            <a:ext cx="852156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Tahoma"/>
                <a:ea typeface="Times New Roman"/>
              </a:rPr>
              <a:t>Некоторые сведения о важнейших кисло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280" y="1635120"/>
          <a:ext cx="8610840" cy="4284720"/>
        </p:xfrm>
        <a:graphic>
          <a:graphicData uri="http://schemas.openxmlformats.org/drawingml/2006/table">
            <a:tbl>
              <a:tblPr/>
              <a:tblGrid>
                <a:gridCol w="2011320"/>
                <a:gridCol w="2957760"/>
                <a:gridCol w="1508040"/>
                <a:gridCol w="2133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ляр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кисл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ный оста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со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ля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лори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ероводород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I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ульфи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ru-RU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ернист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ru-RU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I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ульфи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1" lang="ru-RU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зот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r>
                        <a:rPr b="1" lang="ru-RU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итр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ru-RU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ер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ru-RU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I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ульф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1" lang="ru-RU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ремниев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1" lang="ru-RU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I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илик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ru-RU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го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ru-RU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I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рбон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1" lang="en-US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фосфор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1" lang="ru-RU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II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фосф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89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Tahoma"/>
              </a:rPr>
              <a:t>Классификация кислот                     по наличию в их составе кислород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705440" cy="439236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333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Tahoma"/>
              </a:rPr>
              <a:t>Классификация кислот               по числу атомов вод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3080" cy="482436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14480" y="-360"/>
            <a:ext cx="9372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Tahoma"/>
              </a:rPr>
              <a:t>Сильные и слабые кисл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57600" y="1538280"/>
            <a:ext cx="3733560" cy="5205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ильные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10040" y="3827520"/>
            <a:ext cx="3352680" cy="5205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Слабые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63960" y="2362320"/>
            <a:ext cx="4816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HCl   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 H</a:t>
            </a:r>
            <a:r>
              <a:rPr b="1" lang="en-US" sz="4000" spc="-1" strike="noStrike" baseline="-25000">
                <a:solidFill>
                  <a:srgbClr val="ff0066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SO</a:t>
            </a:r>
            <a:r>
              <a:rPr b="1" lang="en-US" sz="4000" spc="-1" strike="noStrike" baseline="-25000">
                <a:solidFill>
                  <a:srgbClr val="ff0066"/>
                </a:solidFill>
                <a:latin typeface="Tahoma"/>
              </a:rPr>
              <a:t>4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ahoma"/>
              </a:rPr>
              <a:t>    </a:t>
            </a:r>
            <a:r>
              <a:rPr b="1" lang="en-US" sz="4000" spc="-1" strike="noStrike" baseline="-25000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6600cc"/>
                </a:solidFill>
                <a:latin typeface="Tahoma"/>
              </a:rPr>
              <a:t>HNO</a:t>
            </a:r>
            <a:r>
              <a:rPr b="1" lang="en-US" sz="4000" spc="-1" strike="noStrike" baseline="-25000">
                <a:solidFill>
                  <a:srgbClr val="6600cc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648320"/>
            <a:ext cx="83818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H</a:t>
            </a:r>
            <a:r>
              <a:rPr b="1" lang="ru-RU" sz="40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S   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 H</a:t>
            </a:r>
            <a:r>
              <a:rPr b="1" lang="en-US" sz="4000" spc="-1" strike="noStrike" baseline="-25000">
                <a:solidFill>
                  <a:srgbClr val="ff0066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SO</a:t>
            </a:r>
            <a:r>
              <a:rPr b="1" lang="en-US" sz="4000" spc="-1" strike="noStrike" baseline="-25000">
                <a:solidFill>
                  <a:srgbClr val="ff0066"/>
                </a:solidFill>
                <a:latin typeface="Tahoma"/>
              </a:rPr>
              <a:t>3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ahoma"/>
              </a:rPr>
              <a:t>    </a:t>
            </a:r>
            <a:r>
              <a:rPr b="1" lang="en-US" sz="4000" spc="-1" strike="noStrike" baseline="-25000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6600cc"/>
                </a:solidFill>
                <a:latin typeface="Tahoma"/>
              </a:rPr>
              <a:t>H</a:t>
            </a:r>
            <a:r>
              <a:rPr b="1" lang="en-US" sz="4000" spc="-1" strike="noStrike" baseline="-25000">
                <a:solidFill>
                  <a:srgbClr val="6600cc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6600cc"/>
                </a:solidFill>
                <a:latin typeface="Tahoma"/>
              </a:rPr>
              <a:t>CO</a:t>
            </a:r>
            <a:r>
              <a:rPr b="1" lang="en-US" sz="4000" spc="-1" strike="noStrike" baseline="-25000">
                <a:solidFill>
                  <a:srgbClr val="6600cc"/>
                </a:solidFill>
                <a:latin typeface="Tahoma"/>
              </a:rPr>
              <a:t>3  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H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07:48:34Z</dcterms:created>
  <dc:creator>User</dc:creator>
  <dc:description/>
  <dc:language>en-US</dc:language>
  <cp:lastModifiedBy>User</cp:lastModifiedBy>
  <dcterms:modified xsi:type="dcterms:W3CDTF">2009-08-15T18:05:48Z</dcterms:modified>
  <cp:revision>10</cp:revision>
  <dc:subject/>
  <dc:title>Слайд 1</dc:title>
</cp:coreProperties>
</file>